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5235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06196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860040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152352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506196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860040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5235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96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60040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2352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506196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60040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6196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60040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152352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506196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860040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5235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6196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60040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52352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506196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860040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5235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06196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60040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52352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506196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60040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235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196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60040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52352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506196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60040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5235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196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60040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52352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506196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60040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5235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6196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60040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52352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506196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860040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5235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5235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6196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60040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52352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506196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860040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5235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6196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60040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152352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506196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860040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15235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06196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60040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52352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506196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860040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15235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06196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60040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152352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506196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860040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222640"/>
            <a:ext cx="10464840" cy="26035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400" spc="-1" strike="noStrike">
                <a:solidFill>
                  <a:srgbClr val="2f2b20"/>
                </a:solidFill>
                <a:latin typeface="American Typewriter"/>
              </a:rPr>
              <a:t>Click to edit the title text format</a:t>
            </a: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4952880"/>
            <a:ext cx="10464840" cy="1244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t">
            <a:normAutofit fontScale="26000"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Click to edit the outline text format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1" algn="ctr">
              <a:spcBef>
                <a:spcPts val="601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Second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2" algn="ctr">
              <a:spcBef>
                <a:spcPts val="601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Third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3" algn="ctr">
              <a:spcBef>
                <a:spcPts val="601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Fourth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4" algn="ctr">
              <a:spcBef>
                <a:spcPts val="601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Fifth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5" algn="ctr">
              <a:spcBef>
                <a:spcPts val="601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Sixth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6" algn="ctr">
              <a:spcBef>
                <a:spcPts val="601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Seventh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5b4e2d"/>
                </a:solidFill>
                <a:latin typeface="American Typewriter"/>
              </a:rPr>
              <a:t>Click to edit the title text format</a:t>
            </a: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680400" indent="-42156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1" marL="1111680" indent="-42156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2" marL="1542960" indent="-42192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3" marL="1973880" indent="-42156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4" marL="2405160" indent="-42156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5" marL="2405160" indent="-421560">
              <a:spcBef>
                <a:spcPts val="35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6" marL="2405160" indent="-421560">
              <a:spcBef>
                <a:spcPts val="35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b4e2d"/>
                </a:solidFill>
                <a:latin typeface="American Typewriter"/>
              </a:rPr>
              <a:t>Click to edit the title text format</a:t>
            </a:r>
            <a:endParaRPr b="0" lang="en-US" sz="72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523880" y="2730240"/>
            <a:ext cx="504216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9000"/>
          </a:bodyPr>
          <a:p>
            <a:pPr marL="554040" indent="-34344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1" marL="905400" indent="-34344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2" marL="1256760" indent="-34380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3" marL="1607400" indent="-34344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4" marL="1958760" indent="-34344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5" marL="1958760" indent="-343440">
              <a:spcBef>
                <a:spcPts val="35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6" marL="1958760" indent="-343440">
              <a:spcBef>
                <a:spcPts val="35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b4e2d"/>
                </a:solidFill>
                <a:latin typeface="American Typewriter"/>
              </a:rPr>
              <a:t>Click to edit the title text format</a:t>
            </a:r>
            <a:endParaRPr b="0" lang="en-US" sz="72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8026560" y="2730240"/>
            <a:ext cx="396216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8000"/>
          </a:bodyPr>
          <a:p>
            <a:pPr marL="477000" indent="-29556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1" marL="779400" indent="-29556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2" marL="1081440" indent="-29592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3" marL="1383840" indent="-29556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4" marL="1685880" indent="-29556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5" marL="1685880" indent="-295560">
              <a:spcBef>
                <a:spcPts val="35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6" marL="1685880" indent="-295560">
              <a:spcBef>
                <a:spcPts val="35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5b4e2d"/>
                </a:solidFill>
                <a:latin typeface="American Typewriter"/>
              </a:rPr>
              <a:t>Click to edit the title text format</a:t>
            </a: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667080" indent="-421920">
              <a:spcBef>
                <a:spcPts val="3399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lvl="1" marL="1076400" indent="-421920">
              <a:spcBef>
                <a:spcPts val="3399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lvl="2" marL="1485360" indent="-422280">
              <a:spcBef>
                <a:spcPts val="3399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lvl="3" marL="1893960" indent="-421920">
              <a:spcBef>
                <a:spcPts val="3399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lvl="4" marL="2302920" indent="-421920">
              <a:spcBef>
                <a:spcPts val="3399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lvl="5" marL="2302920" indent="-421920">
              <a:spcBef>
                <a:spcPts val="3399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lvl="6" marL="2302920" indent="-421920">
              <a:spcBef>
                <a:spcPts val="3399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5b4e2d"/>
                </a:solidFill>
                <a:latin typeface="American Typewriter"/>
              </a:rPr>
              <a:t>Click to edit the title text format</a:t>
            </a: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69720" y="6527520"/>
            <a:ext cx="10464840" cy="22222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f2b20"/>
                </a:solidFill>
                <a:latin typeface="American Typewriter"/>
              </a:rPr>
              <a:t>Click to edit the title text format</a:t>
            </a:r>
            <a:endParaRPr b="0" lang="en-US" sz="80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15235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667080" indent="-421920">
              <a:spcBef>
                <a:spcPts val="5000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lvl="1" marL="1076400" indent="-421920">
              <a:spcBef>
                <a:spcPts val="5000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lvl="2" marL="1485360" indent="-422280">
              <a:spcBef>
                <a:spcPts val="5000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lvl="3" marL="1893960" indent="-421920">
              <a:spcBef>
                <a:spcPts val="5000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lvl="4" marL="2302920" indent="-421920">
              <a:spcBef>
                <a:spcPts val="5000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lvl="5" marL="2302920" indent="-421920">
              <a:spcBef>
                <a:spcPts val="5000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lvl="6" marL="2302920" indent="-421920">
              <a:spcBef>
                <a:spcPts val="5000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400" spc="-1" strike="noStrike">
                <a:solidFill>
                  <a:srgbClr val="2f2b20"/>
                </a:solidFill>
                <a:latin typeface="American Typewriter"/>
              </a:rPr>
              <a:t>Click to edit the title text format</a:t>
            </a: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f2b20"/>
                </a:solidFill>
                <a:latin typeface="American Typewriter"/>
              </a:rPr>
              <a:t>Click to edit the title text format</a:t>
            </a:r>
            <a:endParaRPr b="0" lang="en-US" sz="80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t">
            <a:normAutofit fontScale="80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Click to edit the outline text format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1" algn="ctr">
              <a:lnSpc>
                <a:spcPct val="80000"/>
              </a:lnSpc>
              <a:spcBef>
                <a:spcPts val="601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Second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2" algn="ctr">
              <a:lnSpc>
                <a:spcPct val="80000"/>
              </a:lnSpc>
              <a:spcBef>
                <a:spcPts val="601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Third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3" algn="ctr">
              <a:lnSpc>
                <a:spcPct val="80000"/>
              </a:lnSpc>
              <a:spcBef>
                <a:spcPts val="601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Fourth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4" algn="ctr">
              <a:lnSpc>
                <a:spcPct val="80000"/>
              </a:lnSpc>
              <a:spcBef>
                <a:spcPts val="601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Fifth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5" algn="ctr">
              <a:lnSpc>
                <a:spcPct val="80000"/>
              </a:lnSpc>
              <a:spcBef>
                <a:spcPts val="601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Sixth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6" algn="ctr">
              <a:lnSpc>
                <a:spcPct val="80000"/>
              </a:lnSpc>
              <a:spcBef>
                <a:spcPts val="601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Seventh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b4e2d"/>
                </a:solidFill>
                <a:latin typeface="American Typewriter"/>
              </a:rPr>
              <a:t>Click to edit the title text format</a:t>
            </a:r>
            <a:endParaRPr b="0" lang="en-US" sz="72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523880" y="2730240"/>
            <a:ext cx="504216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9000"/>
          </a:bodyPr>
          <a:p>
            <a:pPr marL="554040" indent="-34344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1" marL="905400" indent="-34344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2" marL="1256760" indent="-34380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3" marL="1607400" indent="-34344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4" marL="1958760" indent="-34344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5" marL="1958760" indent="-343440">
              <a:spcBef>
                <a:spcPts val="35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6" marL="1958760" indent="-343440">
              <a:spcBef>
                <a:spcPts val="35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9720" y="2222640"/>
            <a:ext cx="10464840" cy="26035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f2b20"/>
                </a:solidFill>
                <a:latin typeface="American Typewriter"/>
              </a:rPr>
              <a:t>Kids mistakenly drink wiper fluid at Ark. daycare</a:t>
            </a:r>
            <a:endParaRPr b="0" lang="en-US" sz="6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269720" y="4952880"/>
            <a:ext cx="10464840" cy="1244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Kaila Kim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5b4e2d"/>
                </a:solidFill>
                <a:latin typeface="American Typewriter"/>
              </a:rPr>
              <a:t>Who?</a:t>
            </a: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76160" indent="-458640">
              <a:lnSpc>
                <a:spcPct val="100000"/>
              </a:lnSpc>
              <a:spcBef>
                <a:spcPts val="33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Ten kids 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776160" indent="-458640">
              <a:lnSpc>
                <a:spcPct val="100000"/>
              </a:lnSpc>
              <a:spcBef>
                <a:spcPts val="33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The owner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5b4e2d"/>
                </a:solidFill>
                <a:latin typeface="American Typewriter"/>
              </a:rPr>
              <a:t>Where?</a:t>
            </a: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523520" y="261576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76160" indent="-458640">
              <a:lnSpc>
                <a:spcPct val="100000"/>
              </a:lnSpc>
              <a:spcBef>
                <a:spcPts val="33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Day-care center at Arkansas, USA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776160" indent="-458640">
              <a:lnSpc>
                <a:spcPct val="100000"/>
              </a:lnSpc>
              <a:spcBef>
                <a:spcPts val="33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Arkansas Children’s Hospital in Little Rock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5b4e2d"/>
                </a:solidFill>
                <a:latin typeface="American Typewriter"/>
              </a:rPr>
              <a:t>What?</a:t>
            </a: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76160" indent="-458640">
              <a:lnSpc>
                <a:spcPct val="100000"/>
              </a:lnSpc>
              <a:spcBef>
                <a:spcPts val="33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Drank windshield wiper fluid which was thought as Kool-Aid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776160" indent="-458640">
              <a:lnSpc>
                <a:spcPct val="100000"/>
              </a:lnSpc>
              <a:spcBef>
                <a:spcPts val="33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Ounce of the blue fluid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776160" indent="-458640">
              <a:lnSpc>
                <a:spcPct val="100000"/>
              </a:lnSpc>
              <a:spcBef>
                <a:spcPts val="33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Blood samples showed how severe the kids were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776160" indent="-458640">
              <a:lnSpc>
                <a:spcPct val="100000"/>
              </a:lnSpc>
              <a:spcBef>
                <a:spcPts val="33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Only one remained in fairly good condition, 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776160" indent="-458640">
              <a:lnSpc>
                <a:spcPct val="100000"/>
              </a:lnSpc>
              <a:spcBef>
                <a:spcPts val="33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Others were vomiting, in coma, etc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5b4e2d"/>
                </a:solidFill>
                <a:latin typeface="American Typewriter"/>
              </a:rPr>
              <a:t>What? cont.</a:t>
            </a: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76160" indent="-458640">
              <a:lnSpc>
                <a:spcPct val="100000"/>
              </a:lnSpc>
              <a:spcBef>
                <a:spcPts val="33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Might cause blindness, nausea,staggering, etc.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776160" indent="-458640">
              <a:lnSpc>
                <a:spcPct val="100000"/>
              </a:lnSpc>
              <a:spcBef>
                <a:spcPts val="33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The owner, Carolyn Bynum, gave up her license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776160" indent="-458640">
              <a:lnSpc>
                <a:spcPct val="100000"/>
              </a:lnSpc>
              <a:spcBef>
                <a:spcPts val="33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Julie Munsell, a spokeswoman for the state Department of Human Services, accepted the “total responsibilities”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5b4e2d"/>
                </a:solidFill>
                <a:latin typeface="American Typewriter"/>
              </a:rPr>
              <a:t>Why?</a:t>
            </a: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76160" indent="-458640">
              <a:lnSpc>
                <a:spcPct val="100000"/>
              </a:lnSpc>
              <a:spcBef>
                <a:spcPts val="33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The owner bought the wiper fluid with other items on a recent shopping trip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776160" indent="-458640">
              <a:lnSpc>
                <a:spcPct val="100000"/>
              </a:lnSpc>
              <a:spcBef>
                <a:spcPts val="33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mistakenly grabbed and put in the refrigerator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776160" indent="-458640">
              <a:lnSpc>
                <a:spcPct val="100000"/>
              </a:lnSpc>
              <a:spcBef>
                <a:spcPts val="33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Kool-Aid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776160" indent="-458640">
              <a:lnSpc>
                <a:spcPct val="100000"/>
              </a:lnSpc>
              <a:spcBef>
                <a:spcPts val="33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Was too busy 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5b4e2d"/>
                </a:solidFill>
                <a:latin typeface="American Typewriter"/>
              </a:rPr>
              <a:t>Reflection</a:t>
            </a: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76160" indent="-458640">
              <a:lnSpc>
                <a:spcPct val="100000"/>
              </a:lnSpc>
              <a:spcBef>
                <a:spcPts val="33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She should have paid attention to the children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776160" indent="-458640">
              <a:lnSpc>
                <a:spcPct val="100000"/>
              </a:lnSpc>
              <a:spcBef>
                <a:spcPts val="33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Abandonment of her license was a wise decision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776160" indent="-458640">
              <a:lnSpc>
                <a:spcPct val="100000"/>
              </a:lnSpc>
              <a:spcBef>
                <a:spcPts val="33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All the responsibilities to her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5b4e2d"/>
                </a:solidFill>
                <a:latin typeface="American Typewriter"/>
              </a:rPr>
              <a:t>How this relates to the curriculum</a:t>
            </a: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76160" indent="-458640">
              <a:lnSpc>
                <a:spcPct val="100000"/>
              </a:lnSpc>
              <a:spcBef>
                <a:spcPts val="33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The bank encouraged people to sell shares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776160" indent="-458640">
              <a:lnSpc>
                <a:spcPct val="100000"/>
              </a:lnSpc>
              <a:spcBef>
                <a:spcPts val="33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unable to recover their money from businesses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776160" indent="-458640">
              <a:lnSpc>
                <a:spcPct val="100000"/>
              </a:lnSpc>
              <a:spcBef>
                <a:spcPts val="33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should taken care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776160" indent="-458640">
              <a:lnSpc>
                <a:spcPct val="100000"/>
              </a:lnSpc>
              <a:spcBef>
                <a:spcPts val="33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responsibilities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